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DB9D-51D6-47CA-ADFF-57070D9A3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818-A68D-4074-92D0-DB14C699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82A-E7FC-45A1-B421-99BB33FA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87C-A888-4E16-AE40-ECD96FA1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18C-6729-4E30-BE77-7E135F95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F0E-783D-4FEB-ADF1-EE4042F3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045-6715-4D9B-9B01-2B2A26DD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DF5-7775-4833-89F9-EFC84893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8E5-E5AA-47F0-B796-816FA2B7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674-9B63-45C8-8908-3C939084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69B-4B81-4C0F-9CF7-A6BB45E9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D19-C6B8-43D1-8255-879A4263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C5B-C7DC-4BDF-AFF7-9DAAFDCC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6F2C-330C-476A-9B46-3087B2E077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image006"/>
          <p:cNvPicPr/>
          <p:nvPr/>
        </p:nvPicPr>
        <p:blipFill>
          <a:blip r:embed="rId1"/>
          <a:stretch/>
        </p:blipFill>
        <p:spPr>
          <a:xfrm>
            <a:off x="2843280" y="35053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villus_villi-intestinales"/>
          <p:cNvPicPr/>
          <p:nvPr/>
        </p:nvPicPr>
        <p:blipFill>
          <a:blip r:embed="rId1"/>
          <a:stretch/>
        </p:blipFill>
        <p:spPr>
          <a:xfrm>
            <a:off x="4761000" y="1413000"/>
            <a:ext cx="4383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J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veryone should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ost people will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ome people might 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food in the alimentary canal is still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cell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olecules of the food have to be able to pass through the wall of the alimentary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gestprocess"/>
          <p:cNvPicPr/>
          <p:nvPr/>
        </p:nvPicPr>
        <p:blipFill>
          <a:blip r:embed="rId1"/>
          <a:stretch/>
        </p:blipFill>
        <p:spPr>
          <a:xfrm>
            <a:off x="0" y="2481120"/>
            <a:ext cx="8977320" cy="4376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in adaptation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3125smintestineapple"/>
          <p:cNvPicPr/>
          <p:nvPr/>
        </p:nvPicPr>
        <p:blipFill>
          <a:blip r:embed="rId1"/>
          <a:stretch/>
        </p:blipFill>
        <p:spPr>
          <a:xfrm>
            <a:off x="6372360" y="1628640"/>
            <a:ext cx="2771640" cy="233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vered with many finger-like projection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13634fig8-24"/>
          <p:cNvPicPr/>
          <p:nvPr/>
        </p:nvPicPr>
        <p:blipFill>
          <a:blip r:embed="rId1"/>
          <a:stretch/>
        </p:blipFill>
        <p:spPr>
          <a:xfrm>
            <a:off x="0" y="0"/>
            <a:ext cx="6300720" cy="339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mallintestine1"/>
          <p:cNvPicPr/>
          <p:nvPr/>
        </p:nvPicPr>
        <p:blipFill>
          <a:blip r:embed="rId2"/>
          <a:stretch/>
        </p:blipFill>
        <p:spPr>
          <a:xfrm>
            <a:off x="4284720" y="3449520"/>
            <a:ext cx="4859280" cy="3243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0:28:57Z</dcterms:created>
  <dc:creator>CEC</dc:creator>
  <dc:description/>
  <dc:language>en-US</dc:language>
  <cp:lastModifiedBy>LEGION2</cp:lastModifiedBy>
  <dcterms:modified xsi:type="dcterms:W3CDTF">2016-01-13T10:21:28Z</dcterms:modified>
  <cp:revision>10</cp:revision>
  <dc:subject/>
  <dc:title>9.6 – Absorption Process</dc:title>
</cp:coreProperties>
</file>